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917-E408-4986-BC43-9AF4383C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BF4-1BE3-4E62-8731-C1459E26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434-BBB2-4A13-AD03-1B9294FE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FC1-84E4-4A08-873D-667BFB40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8C8F-1A6B-4CC2-863C-A1F3C1CC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ACB5-E834-4FE2-9923-52800B4E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D92E-311D-46AF-948C-943F02EF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3085-3F1E-44C6-A9ED-82FAAAA8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2E20-A121-4522-89B5-FC8B5C2B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3D7A-C8C6-4D5A-8C55-CC38C799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3CE2-5D23-4E6F-B864-FE625576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E86-83DE-4E4B-A962-619B52AF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BDCB-C917-49A1-BBE7-9688FF9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22A7-3D7B-439E-9A29-B95B481F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B810-6FED-40A0-96DB-D8C9963C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758C-B45F-41B8-8680-7999BAEA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7BF5-DA8E-4AEB-A2FD-B32C005B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43F-5DE6-446B-A659-0B07B827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ACD-2562-4DFD-BB94-CA71ECFF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D86-4ACB-4F42-BF68-093E0FEF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0CA-4C33-4482-8A05-27CA3E09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A64-490E-4EFA-8A8C-49EF3E12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022-5A2E-469F-9B3C-A156D786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5D8-13F6-461B-B3BD-855616FD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34B4-0C3F-4AF4-8A5C-BA7159B82E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2E45-F6AC-4430-8399-7098D61D6C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6640" y="104292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 figurą geometryczną, jaką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otykasz się prawie na każdym ro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06640" y="1989000"/>
            <a:ext cx="2071440" cy="145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51280" y="1989000"/>
            <a:ext cx="2160720" cy="1435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6280" y="3409920"/>
            <a:ext cx="41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e-sochaczew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62360" y="342900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pl.wikip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az 184" descr=""/>
          <p:cNvPicPr/>
          <p:nvPr/>
        </p:nvPicPr>
        <p:blipFill>
          <a:blip r:embed="rId3"/>
          <a:stretch/>
        </p:blipFill>
        <p:spPr>
          <a:xfrm>
            <a:off x="1467000" y="4387680"/>
            <a:ext cx="1306440" cy="1202040"/>
          </a:xfrm>
          <a:prstGeom prst="rect">
            <a:avLst/>
          </a:prstGeom>
          <a:ln w="0">
            <a:noFill/>
          </a:ln>
        </p:spPr>
      </p:pic>
      <p:pic>
        <p:nvPicPr>
          <p:cNvPr id="101" name="Obraz 185" descr=""/>
          <p:cNvPicPr/>
          <p:nvPr/>
        </p:nvPicPr>
        <p:blipFill>
          <a:blip r:embed="rId4"/>
          <a:stretch/>
        </p:blipFill>
        <p:spPr>
          <a:xfrm>
            <a:off x="3897360" y="4346640"/>
            <a:ext cx="2025720" cy="11970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86" descr="http://t2.gstatic.com/images?q=tbn:ANd9GcRwCoXnjh51CgDEVA45qCYqujndVfO05Z7rryGq2U5epdQ6m16OkA"/>
          <p:cNvPicPr/>
          <p:nvPr/>
        </p:nvPicPr>
        <p:blipFill>
          <a:blip r:embed="rId5"/>
          <a:stretch/>
        </p:blipFill>
        <p:spPr>
          <a:xfrm>
            <a:off x="6597720" y="4329000"/>
            <a:ext cx="1665360" cy="1244880"/>
          </a:xfrm>
          <a:prstGeom prst="rect">
            <a:avLst/>
          </a:prstGeom>
          <a:ln w="0">
            <a:noFill/>
          </a:ln>
        </p:spPr>
      </p:pic>
      <p:pic>
        <p:nvPicPr>
          <p:cNvPr id="103" name="Obraz 187" descr="http://ambinet.pl/film/ha/harry_potter1/plakat.jpg"/>
          <p:cNvPicPr/>
          <p:nvPr/>
        </p:nvPicPr>
        <p:blipFill>
          <a:blip r:embed="rId6"/>
          <a:stretch/>
        </p:blipFill>
        <p:spPr>
          <a:xfrm>
            <a:off x="6708600" y="1808280"/>
            <a:ext cx="1419480" cy="184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04840" y="3654360"/>
            <a:ext cx="247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isko do piłki nożnej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16280" y="3654360"/>
            <a:ext cx="2476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isko do piłki koszykowej 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5589720"/>
            <a:ext cx="2476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naki drogowe np. te umieszczone przed przejazdem kolejowym również mają kształt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41640" y="5634000"/>
            <a:ext cx="24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ice informacyj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634000"/>
            <a:ext cx="2476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ja kartka z zeszytu, czy koperta też mają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3654360"/>
            <a:ext cx="22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kat filmowy również 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UŻ WIESZ, Ż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50920" y="135900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6280" y="1763640"/>
            <a:ext cx="4635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b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wierzchoł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kąty wewnętr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50920" y="35924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Ćwicze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rawdź za pomocą kątomierza jaką miarę mają kąty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50920" y="4869000"/>
            <a:ext cx="31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iara każdego kąta w prostokącie to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czyli jest to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kąt pro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6280" y="275436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ażdy kąt prostokąta ma 9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graphicFrame>
          <p:nvGraphicFramePr>
            <p:cNvPr id="118" name=""/>
            <p:cNvGraphicFramePr/>
            <p:nvPr/>
          </p:nvGraphicFramePr>
          <p:xfrm>
            <a:off x="5923080" y="1630080"/>
            <a:ext cx="2889000" cy="441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3080" y="1630080"/>
                      <a:ext cx="2889000" cy="44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17636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4089240"/>
            <a:ext cx="148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B| = |C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D| = |BC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1000" y="5094360"/>
            <a:ext cx="39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Przeciwległe boki prostokąta są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374840" y="2168640"/>
            <a:ext cx="4637160" cy="1352160"/>
            <a:chOff x="1374840" y="2168640"/>
            <a:chExt cx="4637160" cy="1352160"/>
          </a:xfrm>
        </p:grpSpPr>
        <p:sp>
          <p:nvSpPr>
            <p:cNvPr id="130" name=""/>
            <p:cNvSpPr/>
            <p:nvPr/>
          </p:nvSpPr>
          <p:spPr>
            <a:xfrm>
              <a:off x="1376640" y="2168640"/>
              <a:ext cx="46353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bo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wierzchoł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kąty wewnętrz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4840" y="3152520"/>
              <a:ext cx="38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żdy kąt prostokąta ma 90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6280" y="351144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ciwległe boki są równej dług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50920" y="104292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a pomocą linijki zmierz długości boków prostokąta. Zapisz wnio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graphicFrame>
          <p:nvGraphicFramePr>
            <p:cNvPr id="136" name=""/>
            <p:cNvGraphicFramePr/>
            <p:nvPr/>
          </p:nvGraphicFramePr>
          <p:xfrm>
            <a:off x="5923080" y="1630080"/>
            <a:ext cx="2889000" cy="441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3080" y="1630080"/>
                      <a:ext cx="2889000" cy="44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KĄTN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50920" y="238752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7000" y="508788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C| = |B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50920" y="5634000"/>
            <a:ext cx="39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Przekątne prostokąta są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74840" y="2798640"/>
            <a:ext cx="4637160" cy="1711080"/>
            <a:chOff x="1374840" y="2798640"/>
            <a:chExt cx="4637160" cy="1711080"/>
          </a:xfrm>
        </p:grpSpPr>
        <p:grpSp>
          <p:nvGrpSpPr>
            <p:cNvPr id="149" name=""/>
            <p:cNvGrpSpPr/>
            <p:nvPr/>
          </p:nvGrpSpPr>
          <p:grpSpPr>
            <a:xfrm>
              <a:off x="1374840" y="2798640"/>
              <a:ext cx="4637160" cy="1352160"/>
              <a:chOff x="1374840" y="2798640"/>
              <a:chExt cx="4637160" cy="1352160"/>
            </a:xfrm>
          </p:grpSpPr>
          <p:sp>
            <p:nvSpPr>
              <p:cNvPr id="150" name=""/>
              <p:cNvSpPr/>
              <p:nvPr/>
            </p:nvSpPr>
            <p:spPr>
              <a:xfrm>
                <a:off x="1376640" y="2798640"/>
                <a:ext cx="4635360" cy="99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bok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wierzchołk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kąty wewnętrz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4840" y="3782520"/>
                <a:ext cx="382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ażdy kąt prostokąta ma 90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376280" y="4141440"/>
              <a:ext cx="459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zeciwległe boki są równej długoś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50920" y="166212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mierz długość odcinków: AC i B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6280" y="450216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kątne są równej dług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52360" y="954000"/>
            <a:ext cx="49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cinki łączące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zeciw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erzchołki prostokąta nazyw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kątny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sp>
          <p:nvSpPr>
            <p:cNvPr id="157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5921280" y="1585800"/>
            <a:ext cx="2917800" cy="445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1280" y="1585800"/>
                      <a:ext cx="2917800" cy="44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7182000" y="391788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KĄTN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50920" y="180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50920" y="5753160"/>
            <a:ext cx="39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Punkt O – punkt przeci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ę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cia przek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ą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tnych dzieli je na równe odcinki.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50920" y="108900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 możesz powiedzieć o długościach odcinków AO i OC oraz BO i 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74840" y="2214720"/>
            <a:ext cx="4637160" cy="2071440"/>
            <a:chOff x="1374840" y="2214720"/>
            <a:chExt cx="4637160" cy="2071440"/>
          </a:xfrm>
        </p:grpSpPr>
        <p:grpSp>
          <p:nvGrpSpPr>
            <p:cNvPr id="171" name=""/>
            <p:cNvGrpSpPr/>
            <p:nvPr/>
          </p:nvGrpSpPr>
          <p:grpSpPr>
            <a:xfrm>
              <a:off x="1374840" y="2214720"/>
              <a:ext cx="4637160" cy="1711080"/>
              <a:chOff x="1374840" y="2214720"/>
              <a:chExt cx="4637160" cy="17110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1374840" y="2214720"/>
                <a:ext cx="4637160" cy="1352160"/>
                <a:chOff x="1374840" y="2214720"/>
                <a:chExt cx="4637160" cy="1352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76640" y="2214720"/>
                  <a:ext cx="4635360" cy="99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bok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wierzchołk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kąty wewnętrzn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74840" y="3198600"/>
                  <a:ext cx="3826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każdy kąt prostokąta ma 9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376280" y="3557520"/>
                <a:ext cx="459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zeciwległe boki są równej długośc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376280" y="3917880"/>
              <a:ext cx="459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zekątne są równej długoś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sp>
          <p:nvSpPr>
            <p:cNvPr id="178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5921280" y="1585800"/>
            <a:ext cx="2917800" cy="445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1280" y="1585800"/>
                      <a:ext cx="2917800" cy="44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7182000" y="391788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367000" y="4944960"/>
            <a:ext cx="148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O| = |OC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BO| = |O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6280" y="4273560"/>
            <a:ext cx="45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unkt przecięcia przekątnych </a:t>
            </a:r>
            <a:br>
              <a:rPr sz="1800"/>
            </a:b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 dzieli je na połow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YSUJEMY 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50920" y="998640"/>
            <a:ext cx="6165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Narysuj prostokąt o bokach 4 cm i 3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76364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ysujemy dw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ółproste prostopad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początku w punkc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270828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stępnie rysujemy odcine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39400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Rysujemy odcine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2079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Na półprostych odmierzamy odcinki o danych długości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637000" y="4417920"/>
            <a:ext cx="3825000" cy="2070000"/>
            <a:chOff x="2637000" y="4417920"/>
            <a:chExt cx="3825000" cy="2070000"/>
          </a:xfrm>
        </p:grpSpPr>
        <p:sp>
          <p:nvSpPr>
            <p:cNvPr id="195" name=""/>
            <p:cNvSpPr/>
            <p:nvPr/>
          </p:nvSpPr>
          <p:spPr>
            <a:xfrm flipH="1" flipV="1" rot="5400000">
              <a:off x="4505400" y="475128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 rot="5400000">
              <a:off x="3513960" y="3540240"/>
              <a:ext cx="207000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V="1">
            <a:off x="6462720" y="4417560"/>
            <a:ext cx="0" cy="207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36280" y="6488280"/>
            <a:ext cx="382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6443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72360" y="6443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16640" y="40971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7000" y="405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637000" y="2664000"/>
            <a:ext cx="2069640" cy="3825000"/>
            <a:chOff x="2637000" y="2664000"/>
            <a:chExt cx="2069640" cy="3825000"/>
          </a:xfrm>
        </p:grpSpPr>
        <p:sp>
          <p:nvSpPr>
            <p:cNvPr id="204" name=""/>
            <p:cNvSpPr/>
            <p:nvPr/>
          </p:nvSpPr>
          <p:spPr>
            <a:xfrm flipH="1" flipV="1" rot="10800000">
              <a:off x="2966760" y="412092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 rot="10800000">
              <a:off x="2636640" y="2663640"/>
              <a:ext cx="206964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152360" y="1278000"/>
            <a:ext cx="6750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 narysowania prostokąta będzie nam potrzebna ekier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37000" y="4419720"/>
            <a:ext cx="0" cy="2070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37360" y="4419720"/>
            <a:ext cx="3825000" cy="2069640"/>
            <a:chOff x="2637360" y="4419720"/>
            <a:chExt cx="3825000" cy="2069640"/>
          </a:xfrm>
        </p:grpSpPr>
        <p:sp>
          <p:nvSpPr>
            <p:cNvPr id="209" name=""/>
            <p:cNvSpPr/>
            <p:nvPr/>
          </p:nvSpPr>
          <p:spPr>
            <a:xfrm flipH="1" flipV="1" rot="16200000">
              <a:off x="3598560" y="433800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 rot="16200000">
              <a:off x="3514680" y="3541680"/>
              <a:ext cx="206964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636280" y="4419720"/>
            <a:ext cx="382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85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 I SZEROKOŚĆ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46280" y="2079720"/>
            <a:ext cx="4456080" cy="2707920"/>
            <a:chOff x="2546280" y="2079720"/>
            <a:chExt cx="4456080" cy="2707920"/>
          </a:xfrm>
        </p:grpSpPr>
        <p:grpSp>
          <p:nvGrpSpPr>
            <p:cNvPr id="216" name=""/>
            <p:cNvGrpSpPr/>
            <p:nvPr/>
          </p:nvGrpSpPr>
          <p:grpSpPr>
            <a:xfrm>
              <a:off x="2814840" y="2393280"/>
              <a:ext cx="3829680" cy="2072160"/>
              <a:chOff x="2814840" y="2393280"/>
              <a:chExt cx="3829680" cy="207216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2818800" y="2393280"/>
                <a:ext cx="3825720" cy="2069640"/>
                <a:chOff x="2818800" y="2393280"/>
                <a:chExt cx="3825720" cy="2069640"/>
              </a:xfrm>
            </p:grpSpPr>
            <p:sp>
              <p:nvSpPr>
                <p:cNvPr id="218" name=""/>
                <p:cNvSpPr/>
                <p:nvPr/>
              </p:nvSpPr>
              <p:spPr>
                <a:xfrm flipH="1">
                  <a:off x="2818800" y="2393640"/>
                  <a:ext cx="3825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6643800" y="2393280"/>
                  <a:ext cx="0" cy="206964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2814840" y="2395800"/>
                <a:ext cx="3828240" cy="2069640"/>
                <a:chOff x="2814840" y="2395800"/>
                <a:chExt cx="3828240" cy="2069640"/>
              </a:xfrm>
            </p:grpSpPr>
            <p:sp>
              <p:nvSpPr>
                <p:cNvPr id="221" name=""/>
                <p:cNvSpPr/>
                <p:nvPr/>
              </p:nvSpPr>
              <p:spPr>
                <a:xfrm flipH="1">
                  <a:off x="2817360" y="4460760"/>
                  <a:ext cx="3825720" cy="4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814840" y="2395800"/>
                  <a:ext cx="2880" cy="206964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2546280" y="441936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46280" y="207972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97720" y="2079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95920" y="441936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537000" y="45990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ługość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42000" y="311472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erokość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81280" y="545472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ługość i szerokość prostokąta to jeg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ymi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04:11Z</dcterms:modified>
  <cp:revision>13</cp:revision>
  <dc:subject/>
  <dc:title>Slajd 1</dc:title>
</cp:coreProperties>
</file>